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51297A-5EC4-4300-BAB3-430ACBB3A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0A1467-05CA-43F2-BC65-260C82812101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10E15C-804B-4AF0-9940-85493B75A200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FFF45C-F9D0-4FB2-B471-C4622E70EA6D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14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3429000"/>
            <a:ext cx="9144000" cy="9907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457200" y="358128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 Bold"/>
              </a:rPr>
              <a:t>TITLE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3429000"/>
            <a:ext cx="9144000" cy="9907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txBody>
          <a:bodyPr lIns="548640" rIns="0" tIns="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 Narrow"/>
                <a:ea typeface="Arial Narrow"/>
              </a:rPr>
              <a:t>Благотворителен концерт “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  <a:ea typeface="Arial Narrow"/>
              </a:rPr>
              <a:t>Vivo per lei”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45716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Проект част от кампанията “Един живот”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Ротаракт Пловдив –Пълдин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10.10.2015 г.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Основна идея и цел на кампанията “Един живот”: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990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ътните произшествия и борбата за предотвратяването им е национален проблем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овишаване на транспортната култура на всички участници в движението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ревенция на пътно-транспортен травматизъм и за изграждане на едно по-толерантно общество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целта на концерта е набирането на средства, необходими за възстановяване и рехабилитация на потърпевшите от пътни инциденти.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обществена културно-масова проява на новосъздадения клуб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08" name="Картина 8" descr="10981061_1416816228613031_7856246384944443782_o.jpg"/>
          <p:cNvPicPr/>
          <p:nvPr/>
        </p:nvPicPr>
        <p:blipFill>
          <a:blip r:embed="rId1"/>
          <a:stretch/>
        </p:blipFill>
        <p:spPr>
          <a:xfrm>
            <a:off x="838080" y="2971800"/>
            <a:ext cx="792504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4864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Участници в концерта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“Vivo per lei”</a:t>
            </a: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 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523880" y="121932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Трио Сопрано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11" name="Картина 3" descr="10923805_1432579020370085_1935638774199842012_o.jpg"/>
          <p:cNvPicPr/>
          <p:nvPr/>
        </p:nvPicPr>
        <p:blipFill>
          <a:blip r:embed="rId1"/>
          <a:stretch/>
        </p:blipFill>
        <p:spPr>
          <a:xfrm>
            <a:off x="304920" y="1600200"/>
            <a:ext cx="4851360" cy="2286000"/>
          </a:xfrm>
          <a:prstGeom prst="rect">
            <a:avLst/>
          </a:prstGeom>
          <a:ln w="0">
            <a:noFill/>
          </a:ln>
        </p:spPr>
      </p:pic>
      <p:pic>
        <p:nvPicPr>
          <p:cNvPr id="512" name="Картина 4" descr="10609462_1432579277036726_3494040838389561264_n.jpg"/>
          <p:cNvPicPr/>
          <p:nvPr/>
        </p:nvPicPr>
        <p:blipFill>
          <a:blip r:embed="rId2"/>
          <a:stretch/>
        </p:blipFill>
        <p:spPr>
          <a:xfrm>
            <a:off x="6477120" y="2438280"/>
            <a:ext cx="2282760" cy="3429000"/>
          </a:xfrm>
          <a:prstGeom prst="rect">
            <a:avLst/>
          </a:prstGeom>
          <a:ln w="0">
            <a:noFill/>
          </a:ln>
        </p:spPr>
      </p:pic>
      <p:pic>
        <p:nvPicPr>
          <p:cNvPr id="513" name="Картина 5" descr="10914746_1432578867036767_4398015572425505790_o.jpg"/>
          <p:cNvPicPr/>
          <p:nvPr/>
        </p:nvPicPr>
        <p:blipFill>
          <a:blip r:embed="rId3"/>
          <a:stretch/>
        </p:blipFill>
        <p:spPr>
          <a:xfrm>
            <a:off x="1981080" y="4343400"/>
            <a:ext cx="4300560" cy="2419200"/>
          </a:xfrm>
          <a:prstGeom prst="rect">
            <a:avLst/>
          </a:prstGeom>
          <a:ln w="0">
            <a:noFill/>
          </a:ln>
        </p:spPr>
      </p:pic>
      <p:sp>
        <p:nvSpPr>
          <p:cNvPr id="514" name="Контейнер за съдържание 2"/>
          <p:cNvSpPr/>
          <p:nvPr/>
        </p:nvSpPr>
        <p:spPr>
          <a:xfrm>
            <a:off x="6172200" y="19810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MS PGothic"/>
              </a:rPr>
              <a:t>Дует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MS PGothic"/>
              </a:rPr>
              <a:t>Well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15" name="Контейнер за съдържание 2"/>
          <p:cNvSpPr/>
          <p:nvPr/>
        </p:nvSpPr>
        <p:spPr>
          <a:xfrm>
            <a:off x="2362320" y="39625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MS PGothic"/>
              </a:rPr>
              <a:t>Танцова формация Елик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Arial Narrow"/>
              </a:rPr>
              <a:t>Събитието в снимки /05.04.2015 г. гр. Пловдив,  зала Борис Христов/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7" name="Правоъгълник 4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Картина 7" descr="11119502_1074968322518343_5670227967117154393_o.jpg"/>
          <p:cNvPicPr/>
          <p:nvPr/>
        </p:nvPicPr>
        <p:blipFill>
          <a:blip r:embed="rId1"/>
          <a:stretch/>
        </p:blipFill>
        <p:spPr>
          <a:xfrm>
            <a:off x="1790640" y="1125360"/>
            <a:ext cx="5562720" cy="2656080"/>
          </a:xfrm>
          <a:prstGeom prst="rect">
            <a:avLst/>
          </a:prstGeom>
          <a:ln w="0">
            <a:noFill/>
          </a:ln>
        </p:spPr>
      </p:pic>
      <p:pic>
        <p:nvPicPr>
          <p:cNvPr id="519" name="Контейнер за съдържание 5" descr="11154597_1074967635851745_2410459337553038495_o.jpg"/>
          <p:cNvPicPr/>
          <p:nvPr/>
        </p:nvPicPr>
        <p:blipFill>
          <a:blip r:embed="rId2"/>
          <a:stretch/>
        </p:blipFill>
        <p:spPr>
          <a:xfrm>
            <a:off x="181080" y="3979800"/>
            <a:ext cx="4106880" cy="2738520"/>
          </a:xfrm>
          <a:prstGeom prst="rect">
            <a:avLst/>
          </a:prstGeom>
          <a:ln w="0">
            <a:noFill/>
          </a:ln>
        </p:spPr>
      </p:pic>
      <p:pic>
        <p:nvPicPr>
          <p:cNvPr id="520" name="Контейнер за съдържание 6" descr="11101491_1074967639185078_6853637723582453266_o.jpg"/>
          <p:cNvPicPr/>
          <p:nvPr/>
        </p:nvPicPr>
        <p:blipFill>
          <a:blip r:embed="rId3"/>
          <a:stretch/>
        </p:blipFill>
        <p:spPr>
          <a:xfrm>
            <a:off x="4699080" y="3986280"/>
            <a:ext cx="4097160" cy="2732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Georgia"/>
                <a:ea typeface="Arial Narrow"/>
              </a:rPr>
              <a:t>Постигнати резултати и равносметка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12189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общо събрана сума от </a:t>
            </a:r>
            <a:r>
              <a:rPr b="0" lang="bg-BG" sz="2000" spc="-1" strike="noStrike">
                <a:solidFill>
                  <a:srgbClr val="001b51"/>
                </a:solidFill>
                <a:latin typeface="Georgia"/>
                <a:ea typeface="Georgia"/>
              </a:rPr>
              <a:t>2805лв., </a:t>
            </a: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с която се покрива част от ежедневната рехабилитацията на Диана Петкова, ротарактор, бивш президент на нашия клуб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Концертът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 “Vivo per lei” </a:t>
            </a: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получи високо признание, положителни отзиви, предизвика голям интерес и широко отразяване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Кампанията придоби популярност и започнаха да се получават нови покани за подкрепа и разпространение на каузата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23" name="Картина 10" descr="8617_original.jpg"/>
          <p:cNvPicPr/>
          <p:nvPr/>
        </p:nvPicPr>
        <p:blipFill>
          <a:blip r:embed="rId1"/>
          <a:stretch/>
        </p:blipFill>
        <p:spPr>
          <a:xfrm>
            <a:off x="4038480" y="3665520"/>
            <a:ext cx="4800600" cy="3192480"/>
          </a:xfrm>
          <a:prstGeom prst="rect">
            <a:avLst/>
          </a:prstGeom>
          <a:ln w="0">
            <a:noFill/>
          </a:ln>
        </p:spPr>
      </p:pic>
      <p:pic>
        <p:nvPicPr>
          <p:cNvPr id="524" name="Картина 14" descr="11261639_682092821897262_679611286086354353_n.jpg"/>
          <p:cNvPicPr/>
          <p:nvPr/>
        </p:nvPicPr>
        <p:blipFill>
          <a:blip r:embed="rId2"/>
          <a:stretch/>
        </p:blipFill>
        <p:spPr>
          <a:xfrm>
            <a:off x="152280" y="3581280"/>
            <a:ext cx="37674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Georgia"/>
                <a:ea typeface="Arial Narrow"/>
              </a:rPr>
              <a:t>Моля насладете се на малка част от магията “Живея за нея”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Заглавие 1"/>
          <p:cNvSpPr/>
          <p:nvPr/>
        </p:nvSpPr>
        <p:spPr>
          <a:xfrm>
            <a:off x="3429000" y="6095880"/>
            <a:ext cx="5410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00246c"/>
                </a:solidFill>
                <a:latin typeface="Georgia"/>
                <a:ea typeface="MS PGothic"/>
              </a:rPr>
              <a:t>Благодарим Ви за вниманието!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27" name="PresentationofVivoperleiconcert.mp4" descr=""/>
          <p:cNvPicPr/>
          <p:nvPr/>
        </p:nvPicPr>
        <p:blipFill>
          <a:blip r:embed="rId1"/>
          <a:stretch/>
        </p:blipFill>
        <p:spPr>
          <a:xfrm>
            <a:off x="504720" y="1195560"/>
            <a:ext cx="8134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4272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5T14:34:06Z</dcterms:modified>
  <cp:revision>662</cp:revision>
  <dc:subject/>
  <dc:title>PowerPoint Presentation</dc:title>
</cp:coreProperties>
</file>